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CC2-D884-4412-B63D-4AA2588B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4E8-A174-4B91-B9EC-E8C94884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5C5-384F-47F3-AC6D-152859AB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422-B003-43E0-8CEE-37B2F8EE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38C-98CA-4213-908C-D62D867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E61-F776-4E77-900C-0F4BD69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F2E-841B-4AC0-ABE1-EF4B182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08D-C35B-458D-B4B5-CE0CE98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8FC-620D-4E33-A183-ACC858A1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7B3-0303-4D44-B6A0-7ED4662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C6B-EBED-480F-8903-FD91084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E47-A119-422F-A9C7-4C5DB9F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755E-B469-417B-B68F-05B11BF0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8 Len môjho Pána spravodliv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avodliv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vadobného šatu skv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rúcho on mi dar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, aby som s ním več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j náde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yzná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om blúd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ohokrá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jeho kr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zmyla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at môj je belší než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okušeniu odol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každej hriechu poha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a moc ma ochrá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 prachu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kriesený r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m tu krásnu novú vla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kloním kol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Láska večná, bezmedz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1:21:29Z</dcterms:modified>
  <cp:revision>36</cp:revision>
  <dc:subject/>
  <dc:title>Je veľký náš Pán, on slávy je Kráľ Nech do všetkých strán  spev vrúcnych znie chvál.</dc:title>
</cp:coreProperties>
</file>